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4AA-7AC9-477E-A4D1-48B223A8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206-ECCA-452D-84E8-B84A2F9E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DB8-0BF6-4723-A0ED-3F06944A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A85-6EBE-4EF4-9294-5EFB54E7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794-D34F-44DE-9D7A-E543685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8BD-3415-4B24-92D2-39323F4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F02-B69C-47DA-ABAA-FB574BB3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944-59E7-4E58-B04D-518BA54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307-3039-480C-864B-5EA74D0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BDF-57A4-4233-90F4-7A35F15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3CB-B506-406C-B3B6-4250748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A36-FC9F-4255-BD7E-7D7C8B1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9445-572D-4BF6-A220-A064D661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457200"/>
          <a:ext cx="7086600" cy="600696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</a:tblGrid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ino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4, 1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3, 1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eg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Virgi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Yor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y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for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de Is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9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a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hig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a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nes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Mex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wa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Dak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a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hing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28880" y="879480"/>
          <a:ext cx="7086600" cy="54608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1560"/>
                <a:gridCol w="1771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mo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9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icu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ess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nsylva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scons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achuset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ra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r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1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w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2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w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3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Hampsh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 12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ntuc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16, 19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Dak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3, 19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gi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5, 19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Carol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3, 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fied in 514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3:44:04Z</dcterms:created>
  <dc:creator>Becky Krichevsky</dc:creator>
  <dc:description/>
  <dc:language>en-US</dc:language>
  <cp:lastModifiedBy>Becky Krichevsky</cp:lastModifiedBy>
  <dcterms:modified xsi:type="dcterms:W3CDTF">2009-04-07T03:44:13Z</dcterms:modified>
  <cp:revision>1</cp:revision>
  <dc:subject/>
  <dc:title>Slide 1</dc:title>
</cp:coreProperties>
</file>